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8.jpeg" ContentType="image/jpeg"/>
  <Override PartName="/ppt/media/whoosh.wav" ContentType="audio/x-wav"/>
  <Override PartName="/ppt/media/image18.png" ContentType="image/pn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0C7-C236-40BB-8B43-8797C5D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26E-BC77-4631-86B4-73BCE5C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46F-708A-4259-B290-77CD325D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143-1E36-434E-A9A0-B6583C76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5A4-5A6C-49DB-A73D-CC5E46C2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D30-5304-4C6E-BFDD-F8F28CE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89E-1BF7-4095-BB10-3D5C3F7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D54-A232-4B36-B103-4124E3F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9CA-9E9F-4212-B5B0-3A5657F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732-C480-4CE1-8050-E8B80368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338-A62F-45E8-B108-DAD3DFE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E5D-CBBC-4E81-AD7C-DB2FE09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F02-EBFF-4E33-9CE3-3372C4C8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YOUNG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what you think is happening with the following child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making assumption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9625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ie has difficulty sh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ie never sh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mage"/>
          <p:cNvPicPr/>
          <p:nvPr/>
        </p:nvPicPr>
        <p:blipFill>
          <a:blip r:embed="rId1"/>
          <a:stretch/>
        </p:blipFill>
        <p:spPr>
          <a:xfrm>
            <a:off x="5105520" y="25527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label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ww.drudion.org.uk/scarey_kids.jpg"/>
          <p:cNvPicPr/>
          <p:nvPr/>
        </p:nvPicPr>
        <p:blipFill>
          <a:blip r:embed="rId1"/>
          <a:stretch/>
        </p:blipFill>
        <p:spPr>
          <a:xfrm>
            <a:off x="3809880" y="1905120"/>
            <a:ext cx="48592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8580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02104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often acts out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i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conclusions you are n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fied to m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3320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icture of teacher helping child"/>
          <p:cNvPicPr/>
          <p:nvPr/>
        </p:nvPicPr>
        <p:blipFill>
          <a:blip r:embed="rId1"/>
          <a:stretch/>
        </p:blipFill>
        <p:spPr>
          <a:xfrm>
            <a:off x="4724280" y="2057400"/>
            <a:ext cx="3699000" cy="2278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748080" y="1944720"/>
            <a:ext cx="419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can’t do anything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self because he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in a larg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y do everyth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needs to develop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o things for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compare children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evelop at different rat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0472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dirtragmag.com/staff/brad/derby4%20darren%20falling%20down.jpg"/>
          <p:cNvPicPr/>
          <p:nvPr/>
        </p:nvPicPr>
        <p:blipFill>
          <a:blip r:embed="rId1"/>
          <a:stretch/>
        </p:blipFill>
        <p:spPr>
          <a:xfrm>
            <a:off x="3276720" y="245736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93640" y="1981080"/>
            <a:ext cx="49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falls off his bike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96160" y="3544920"/>
            <a:ext cx="26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. 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ide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as well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OBJECTI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 observations simply state the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important but difficult to remain objective at all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thing to record when observing is an objective list of behavior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E SUBJEC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ive observations state a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in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obser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08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must b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id f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bj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Documents and Settings\Bruce\My Documents\My Pictures\soft-clouds-blue-sky.jpg"/>
          <p:cNvPicPr/>
          <p:nvPr/>
        </p:nvPicPr>
        <p:blipFill>
          <a:blip r:embed="rId1"/>
          <a:stretch/>
        </p:blipFill>
        <p:spPr>
          <a:xfrm>
            <a:off x="5334120" y="1523880"/>
            <a:ext cx="3230280" cy="19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:\Documents and Settings\Bruce\My Documents\My Pictures\rock.jpg"/>
          <p:cNvPicPr/>
          <p:nvPr/>
        </p:nvPicPr>
        <p:blipFill>
          <a:blip r:embed="rId2"/>
          <a:stretch/>
        </p:blipFill>
        <p:spPr>
          <a:xfrm>
            <a:off x="5410080" y="3962520"/>
            <a:ext cx="2673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ide which statements about the following children are Subjective and which are Objectiv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wssnake3"/>
          <p:cNvPicPr/>
          <p:nvPr/>
        </p:nvPicPr>
        <p:blipFill>
          <a:blip r:embed="rId1"/>
          <a:stretch/>
        </p:blipFill>
        <p:spPr>
          <a:xfrm>
            <a:off x="609480" y="533520"/>
            <a:ext cx="78678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99400" y="5827680"/>
            <a:ext cx="82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looks away when the teacher showed him a snake.  Her said, “I don’t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kes, they feel funn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was afraid because he said he didn’t like snak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715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laying with MusicBlocks"/>
          <p:cNvPicPr/>
          <p:nvPr/>
        </p:nvPicPr>
        <p:blipFill>
          <a:blip r:embed="rId1"/>
          <a:stretch/>
        </p:blipFill>
        <p:spPr>
          <a:xfrm>
            <a:off x="4419720" y="2514600"/>
            <a:ext cx="4046400" cy="354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80880" y="2590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was playing with the music blocks.  When Carly &amp; Josh asked to play, Tyler agreed and showed them 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27640" y="573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is a good boy and gets along well with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Swinging"/>
          <p:cNvPicPr/>
          <p:nvPr/>
        </p:nvPicPr>
        <p:blipFill>
          <a:blip r:embed="rId1"/>
          <a:stretch/>
        </p:blipFill>
        <p:spPr>
          <a:xfrm>
            <a:off x="304920" y="228600"/>
            <a:ext cx="39844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937040" y="49680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die wanted to swing but two others were already there.  S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ed up a rock and threw it a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01440" y="4840200"/>
            <a:ext cx="753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die got mad and threw a rock because she 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hare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Untitled-27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54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8222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49880" y="620856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ey is sitting on the slide, just 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servations are confidential, should be filed and any problems should only be reported to the dir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BUSH2"/>
          <p:cNvPicPr/>
          <p:nvPr/>
        </p:nvPicPr>
        <p:blipFill>
          <a:blip r:embed="rId1"/>
          <a:stretch/>
        </p:blipFill>
        <p:spPr>
          <a:xfrm>
            <a:off x="5867280" y="1676520"/>
            <a:ext cx="296388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G:\CONFIDEN.TIF"/>
          <p:cNvPicPr/>
          <p:nvPr/>
        </p:nvPicPr>
        <p:blipFill>
          <a:blip r:embed="rId2"/>
          <a:stretch/>
        </p:blipFill>
        <p:spPr>
          <a:xfrm>
            <a:off x="1219320" y="373392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DIVERS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help identify disabled children with special needs and assess developmental stages and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:\Documents and Settings\Wendy\My Documents\My Pictures\funplay6.jpg"/>
          <p:cNvPicPr/>
          <p:nvPr/>
        </p:nvPicPr>
        <p:blipFill>
          <a:blip r:embed="rId1"/>
          <a:stretch/>
        </p:blipFill>
        <p:spPr>
          <a:xfrm>
            <a:off x="762120" y="3657600"/>
            <a:ext cx="4267080" cy="256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:\Documents and Settings\Wendy\My Documents\My Pictures\disability.jpg"/>
          <p:cNvPicPr/>
          <p:nvPr/>
        </p:nvPicPr>
        <p:blipFill>
          <a:blip r:embed="rId2"/>
          <a:stretch/>
        </p:blipFill>
        <p:spPr>
          <a:xfrm>
            <a:off x="6477120" y="2209680"/>
            <a:ext cx="2288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SSESS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Self-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(Individual or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COMPARE TO THE GOOD OLD REPORT C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grades easy to interpr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the grades really reflect how a student i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report cards culturally bi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teachers seem to have a set of stock comments or do they consider each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report cards reflect positive or negative view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students are “above averag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VALUATE PROBLEM SOLVING SKI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skills are valued more than the acquisition of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problem solving be assessed at 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uld a test be a good evaluation of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ould a teacher demonstrate learning of problem solving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a school requires standardized comparative te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ould test performance of an autonomous student differ from a fact lear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D SAMP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taken at set interv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22240" y="3160800"/>
            <a:ext cx="474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5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very 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clock"/>
          <p:cNvPicPr/>
          <p:nvPr/>
        </p:nvPicPr>
        <p:blipFill>
          <a:blip r:embed="rId1"/>
          <a:stretch/>
        </p:blipFill>
        <p:spPr>
          <a:xfrm>
            <a:off x="5486400" y="3124080"/>
            <a:ext cx="31622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record of how often behavior happen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47920" y="3276720"/>
            <a:ext cx="6476760" cy="2438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ohn:  Nov. 2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gressive Behavio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SAMP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ncident Recor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exactly what happens during a particular event, da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22240" y="2987640"/>
            <a:ext cx="336888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of a new behavior from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formation about when and how this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C:\Documents and Settings\Wendy\My Documents\My Pictures\montessori.jpg"/>
          <p:cNvPicPr/>
          <p:nvPr/>
        </p:nvPicPr>
        <p:blipFill>
          <a:blip r:embed="rId1"/>
          <a:stretch/>
        </p:blipFill>
        <p:spPr>
          <a:xfrm>
            <a:off x="3962520" y="2819520"/>
            <a:ext cx="4937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form of observation where the observer checks off listed behavi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130400" y="308772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“Report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evaluate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C:\Documents and Settings\Bruce\My Documents\My Pictures\check list.gif"/>
          <p:cNvPicPr/>
          <p:nvPr/>
        </p:nvPicPr>
        <p:blipFill>
          <a:blip r:embed="rId1"/>
          <a:stretch/>
        </p:blipFill>
        <p:spPr>
          <a:xfrm>
            <a:off x="4724280" y="2743200"/>
            <a:ext cx="36799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itten summary of the conclusions of the observations or activities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writing"/>
          <p:cNvPicPr/>
          <p:nvPr/>
        </p:nvPicPr>
        <p:blipFill>
          <a:blip r:embed="rId1"/>
          <a:stretch/>
        </p:blipFill>
        <p:spPr>
          <a:xfrm>
            <a:off x="2133720" y="2670120"/>
            <a:ext cx="4952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ure29"/>
          <p:cNvPicPr/>
          <p:nvPr/>
        </p:nvPicPr>
        <p:blipFill>
          <a:blip r:embed="rId1"/>
          <a:stretch/>
        </p:blipFill>
        <p:spPr>
          <a:xfrm>
            <a:off x="3886200" y="152280"/>
            <a:ext cx="442440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50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68640" y="3389400"/>
            <a:ext cx="298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er usually likes to 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himself, but chose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Zac today.  If he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friend it is us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c or Jacob.  He lov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un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ECDOTAL REC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records observations of child’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est hunches about reasons fo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nditions that reinforce behavior by noticing what happens prior to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feedback about what children may have learned from 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OF CHI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COLLECTIONS OF THE CHILD’S WORK, AND PICTURES OF THE CHILD, INCLUDING OBSERVATIONS ABOUT WHAT THE CHILD IS DOING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communicate with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assess individu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teacher accoun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ontain teacher observations &amp;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Literacy:  Letters, reading,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icture10"/>
          <p:cNvPicPr/>
          <p:nvPr/>
        </p:nvPicPr>
        <p:blipFill>
          <a:blip r:embed="rId1"/>
          <a:stretch/>
        </p:blipFill>
        <p:spPr>
          <a:xfrm>
            <a:off x="4419720" y="3317760"/>
            <a:ext cx="4500360" cy="325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Picture34"/>
          <p:cNvPicPr/>
          <p:nvPr/>
        </p:nvPicPr>
        <p:blipFill>
          <a:blip r:embed="rId2"/>
          <a:stretch/>
        </p:blipFill>
        <p:spPr>
          <a:xfrm>
            <a:off x="1143000" y="2819520"/>
            <a:ext cx="293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Arts:  Ar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Picture6"/>
          <p:cNvPicPr/>
          <p:nvPr/>
        </p:nvPicPr>
        <p:blipFill>
          <a:blip r:embed="rId1"/>
          <a:stretch/>
        </p:blipFill>
        <p:spPr>
          <a:xfrm>
            <a:off x="1600200" y="2286000"/>
            <a:ext cx="55576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&amp; Math:  Science activities, math and small manipul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icture16"/>
          <p:cNvPicPr/>
          <p:nvPr/>
        </p:nvPicPr>
        <p:blipFill>
          <a:blip r:embed="rId1"/>
          <a:stretch/>
        </p:blipFill>
        <p:spPr>
          <a:xfrm>
            <a:off x="5181480" y="2743200"/>
            <a:ext cx="317052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icture35"/>
          <p:cNvPicPr/>
          <p:nvPr/>
        </p:nvPicPr>
        <p:blipFill>
          <a:blip r:embed="rId2"/>
          <a:stretch/>
        </p:blipFill>
        <p:spPr>
          <a:xfrm>
            <a:off x="838080" y="2819520"/>
            <a:ext cx="3665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kills:  Dramatic play &amp;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icture33"/>
          <p:cNvPicPr/>
          <p:nvPr/>
        </p:nvPicPr>
        <p:blipFill>
          <a:blip r:embed="rId1"/>
          <a:stretch/>
        </p:blipFill>
        <p:spPr>
          <a:xfrm>
            <a:off x="5510160" y="2286000"/>
            <a:ext cx="2916360" cy="4419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icture7"/>
          <p:cNvPicPr/>
          <p:nvPr/>
        </p:nvPicPr>
        <p:blipFill>
          <a:blip r:embed="rId2"/>
          <a:stretch/>
        </p:blipFill>
        <p:spPr>
          <a:xfrm>
            <a:off x="838080" y="2286000"/>
            <a:ext cx="41515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Moto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 play, &amp;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Untitled-3"/>
          <p:cNvPicPr/>
          <p:nvPr/>
        </p:nvPicPr>
        <p:blipFill>
          <a:blip r:embed="rId1"/>
          <a:stretch/>
        </p:blipFill>
        <p:spPr>
          <a:xfrm>
            <a:off x="380880" y="3429000"/>
            <a:ext cx="48006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Untitled-35"/>
          <p:cNvPicPr/>
          <p:nvPr/>
        </p:nvPicPr>
        <p:blipFill>
          <a:blip r:embed="rId2"/>
          <a:stretch/>
        </p:blipFill>
        <p:spPr>
          <a:xfrm>
            <a:off x="4267080" y="1676520"/>
            <a:ext cx="463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Events:  Birthdays, Christmas, Field Tr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Untitled-15"/>
          <p:cNvPicPr/>
          <p:nvPr/>
        </p:nvPicPr>
        <p:blipFill>
          <a:blip r:embed="rId1"/>
          <a:stretch/>
        </p:blipFill>
        <p:spPr>
          <a:xfrm>
            <a:off x="228600" y="3048120"/>
            <a:ext cx="5334120" cy="3224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icture53"/>
          <p:cNvPicPr/>
          <p:nvPr/>
        </p:nvPicPr>
        <p:blipFill>
          <a:blip r:embed="rId2"/>
          <a:stretch/>
        </p:blipFill>
        <p:spPr>
          <a:xfrm>
            <a:off x="6019920" y="2438280"/>
            <a:ext cx="2904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IZED EDUCATION PLAN (IEP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ildren with spec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description of curren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goals and 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services needed to meet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31"/>
          <p:cNvPicPr/>
          <p:nvPr/>
        </p:nvPicPr>
        <p:blipFill>
          <a:blip r:embed="rId1"/>
          <a:stretch/>
        </p:blipFill>
        <p:spPr>
          <a:xfrm>
            <a:off x="2971800" y="304920"/>
            <a:ext cx="5508720" cy="5986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69720" y="3389400"/>
            <a:ext cx="263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mryn is barel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as a har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ing awake.  M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 she gets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so we wonder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uld be a phys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r an emo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5"/>
          <p:cNvPicPr/>
          <p:nvPr/>
        </p:nvPicPr>
        <p:blipFill>
          <a:blip r:embed="rId1"/>
          <a:stretch/>
        </p:blipFill>
        <p:spPr>
          <a:xfrm>
            <a:off x="228600" y="374760"/>
            <a:ext cx="8639280" cy="5521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72600" y="6056280"/>
            <a:ext cx="79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in often plays with play dough.  He has chosen to roll and cut with cook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ters today.  Other favorite activities are dress ups and puzz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9" descr="volcanoeruption2"/>
          <p:cNvPicPr/>
          <p:nvPr/>
        </p:nvPicPr>
        <p:blipFill>
          <a:blip r:embed="rId1"/>
          <a:stretch/>
        </p:blipFill>
        <p:spPr>
          <a:xfrm>
            <a:off x="609480" y="152280"/>
            <a:ext cx="793440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0"/>
          <p:cNvSpPr/>
          <p:nvPr/>
        </p:nvSpPr>
        <p:spPr>
          <a:xfrm>
            <a:off x="540360" y="5943600"/>
            <a:ext cx="80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girl behind the teacher is not able to get inside the group to see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appening.  She just stands there and watches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30"/>
          <p:cNvSpPr/>
          <p:nvPr/>
        </p:nvSpPr>
        <p:spPr>
          <a:xfrm>
            <a:off x="1073880" y="6019920"/>
            <a:ext cx="68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was fighting with John, Joe saw them fighting and dec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Danny.  Joe said, “I’ll help you out, Dann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32" descr="C:\Documents and Settings\Bruce\My Documents\My Pictures\fight.jpg"/>
          <p:cNvPicPr/>
          <p:nvPr/>
        </p:nvPicPr>
        <p:blipFill>
          <a:blip r:embed="rId1"/>
          <a:stretch/>
        </p:blipFill>
        <p:spPr>
          <a:xfrm>
            <a:off x="2209680" y="838080"/>
            <a:ext cx="4381560" cy="43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servation is watching children with the clear goal of studying a specific behavior or 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00400" y="3319560"/>
            <a:ext cx="55627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order to challenge and support the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1360" y="5029200"/>
            <a:ext cx="80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 realistic curriculum and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est to observe from a distance without the child knowing they are being observ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C:\Documents and Settings\Wendy\My Documents\My Pictures\surveilance camera.gif"/>
          <p:cNvPicPr/>
          <p:nvPr/>
        </p:nvPicPr>
        <p:blipFill>
          <a:blip r:embed="rId1"/>
          <a:stretch/>
        </p:blipFill>
        <p:spPr>
          <a:xfrm>
            <a:off x="5257800" y="1981080"/>
            <a:ext cx="371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6:20:25Z</dcterms:created>
  <dc:creator>Wendy Crapo</dc:creator>
  <dc:description/>
  <dc:language>en-US</dc:language>
  <cp:lastModifiedBy>Eliss Herman</cp:lastModifiedBy>
  <dcterms:modified xsi:type="dcterms:W3CDTF">2013-09-06T02:19:25Z</dcterms:modified>
  <cp:revision>10</cp:revision>
  <dc:subject/>
  <dc:title>OBSERVING YOUNG CHILDREN</dc:title>
</cp:coreProperties>
</file>